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68A-E384-4F4D-844E-D8954989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3FF-F831-4ED1-A8F4-C317504B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A10-AB88-434E-9A8C-27B3F470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794-2F6C-4051-AE42-8DA68BB4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5AE1-0A86-46BC-864D-3C4D0AD7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F674-B2B1-4420-8B29-8010722C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2737-F3C8-49D7-948D-115000A3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8049-293A-4872-AD87-83753B4F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5A6B-6757-4B0D-935D-9C075B5B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8BDF-1D4D-4B15-BB3B-3A14D065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EFBD-C5A9-4E78-B298-E0FE2D4F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748-08D0-4A3C-BA1C-1354D441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55B3-3505-42C3-A499-B31510CD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8145-661E-4ABB-8F34-BD0E29F9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7D2F-2C10-4F9F-B356-7ED0B761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770E-44A3-4AAE-8733-49BC0EB6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01D2-EB13-4674-9E5B-AE7B90C2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946-E3F5-42FF-89F2-2060EF5E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76F-0277-4338-AEEF-8D7EE845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16D-FC4B-4E24-B333-24448FF8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A84-0044-4DCB-89BA-48DE04D2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1D1-22F4-4C31-AFD8-03790B6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0F9-AB71-4ED0-9D34-294BDC53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782-D349-48C7-9DBA-73B45254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CCF6-A334-40F5-9C11-A2B8981D0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E631-42FE-4E62-A0DA-03AF6428C3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C’est à toi! – Level 2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itre 9 – Deuxième Ét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t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coup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 (rencontrer) un type bizarre dans la forê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rencont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____________ (être) très méchant e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 (avoir) peu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____ (arriver) chez ma grand-mè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is arri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 _________(être) un peu plus poilue que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dain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 (crier)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ère-grand, ce que vous avez de grandes de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cri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le _________ (avoir)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énervé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 tout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coup elle __________ (déchirer) sa robe e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échir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____(voir) qu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v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 (être) un grand méchant loup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ts qui indiquent le PC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dain – sudde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t à coup – all of a sud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 moment où – just w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s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f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(être) le type de la forêt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t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fin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 (partir) en courant à toutes jamb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is par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ts qui indiquent l</a:t>
            </a:r>
            <a:r>
              <a:rPr b="1" lang="ja-JP" sz="4400" spc="-1" strike="noStrike">
                <a:solidFill>
                  <a:srgbClr val="ffffb7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mp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jours – al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bitude – usu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s les jours – all th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vent – of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temps en temps – from time to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chez-vous de votre partenai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nez un tableau par person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à gauche prend un feutre v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à droite prend un feutre rou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verte es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SSÉ COMPOS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personne rouge est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MPARF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atiquon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écidez si la phrase demande le passé composé (vert) ou 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rfait (roug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ule la personne avec cette couleur peut répond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, il ___________ (faire) très be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sa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rd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 (décider) d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 chez ma grand-mè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décid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____ (vouloir) lui offrir un cadea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ul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#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is, je/j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_________ (commencer) ma ro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 commenc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Viviane Grebert</cp:lastModifiedBy>
  <dcterms:modified xsi:type="dcterms:W3CDTF">2012-05-03T21:58:40Z</dcterms:modified>
  <cp:revision>76</cp:revision>
  <dc:subject/>
  <dc:title>Allez, viens! – Level 2</dc:title>
</cp:coreProperties>
</file>